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C2C-1429-453F-AAC1-13CDD228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BBB-F5EC-4644-90F5-71778E8A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D39-A7AD-4FDF-B9A6-ADD5CC9B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B6A-BE50-4A57-87B9-6E2A6F51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67E-DDBD-47B2-B3AB-1C38D58C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32C-91E6-40D3-976B-79B012F6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5AB-1FDD-41AD-99F1-2786AA7C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302-7FE9-4F30-9E3C-D8674FA2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AB2-AB31-4E18-A2ED-40F3E736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5E3-4EE6-4D33-87E7-0B616EB2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5C6-F285-4C58-BC33-1A1DD00F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581-DC40-40D9-8DCF-695B2BCD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CFEC-759E-412A-BA94-16C92A10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oc-project.org/" TargetMode="External"/><Relationship Id="rId2" Type="http://schemas.openxmlformats.org/officeDocument/2006/relationships/hyperlink" Target="http://swan.mindinformatics.org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CLS Scientific Discour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-SHALS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C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chusetts General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Harvard Medical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0640" y="59054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5856120"/>
            <a:ext cx="7333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N-SIOC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3520" y="182196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rse categ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esearch questions, scientific assertions or claims, hypotheses, comments and discussion, and evid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edical categ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enes, proteins, antibodies, animal models, laboratory protocols, biological processes, reagents, disease classifications, user-generated tags, and bibliographic re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riving Biological Pro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ross-application of discoveries, methods and reagents in stem cell, Alzheimer and Parkinson disease resea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ormatics use c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roperability of web-based research communiti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each other (b) key biomedical ontologies (c ) algorithms for bibliographic annotation and text mining (d) key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AN-SIOC +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discourse is about, or “warrant for belief” within dis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hypothesis and interpretation to data and data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-analysis, replication, re-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nance of evidence /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54000"/>
            <a:ext cx="5346720" cy="680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24480" y="4952880"/>
            <a:ext cx="12956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6440" y="50292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N-SIOC + my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integr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Search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6920" y="1946160"/>
            <a:ext cx="871848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all discussion of NF-kappaB by any synony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discussion on [“NF-KB1” ∧ “inflammatory response”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experiments on other genes and proteins relevant to “neuroinflammation”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conflicting assertions about PD “anti-inflammatory response” and supporting experimental data for both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workflows were used to analyze the experiment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rieve the data for re-analysis or meta-analysi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CLS Scientific Discourse connects: hypothesis, experiment, interpretation, citation, evidence and discuss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ve re-use of other ontolog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case “laboratory” in neuroscience focused on neurodegenerative diseases and regenerative medici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AN-SIOC integration complete, IG Note forthcom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AN-SIOC myExperiment is in prog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dis Bojars (DERI)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John Breslin (DER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 Cheung (Ya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olo Ciccarese (Harv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im Clark (Harv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eshna Das (Harv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deRoure (Southamp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an Fox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dor Groza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oph Lange (Jacobs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Newman (Southamp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o Ocana (M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 Passant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Prud’hommeaux (W3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Samwald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ger Stenzhorn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ie Stephens (Eli Li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Wu (Alzheimer Research F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6172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task co-ch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olo Cicca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Ne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re Pass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8320" y="-679320"/>
            <a:ext cx="5294520" cy="7502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8320" y="-679320"/>
            <a:ext cx="5294520" cy="750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332160" y="1349280"/>
            <a:ext cx="2473200" cy="344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32160" y="1349280"/>
            <a:ext cx="2473200" cy="344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741320" y="2027160"/>
            <a:ext cx="5343840" cy="279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50840" y="3054240"/>
            <a:ext cx="91346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4500" spc="-1" strike="noStrike">
                <a:solidFill>
                  <a:srgbClr val="4a00e6"/>
                </a:solidFill>
                <a:latin typeface="Helvetica Neue"/>
              </a:rPr>
              <a:t>Scientific Discours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is experiment + dis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experimental evid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of results within a mod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 in models and interpret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of confli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rse incl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es, claims and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interpret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uttal, agreement or commen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ques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3520" y="21384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Gaps and Inconsistencies in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888840" indent="-57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st the 20 top candidate theories about how Alzheimer Disease works, there are at l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key scientific disagreem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key open questions to be res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, theory development and argument should eventually resolv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CLS Discourse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use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science-related in thi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relevant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C, SWAN, myExperiment, Lilly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in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and publish integrated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gress: SWAN+SIOC IG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342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8160" y="588960"/>
            <a:ext cx="77709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AN+SI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3520" y="144576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O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ioc-project.or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vities and contributions of online communiti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gration with blogging, wiki and CMS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of existing ontologies e.g. FOAF, SKOS, D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WA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wan.mindinformatics.or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ypotheses, claims, evidence, concepts, ent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hema for SWAN Alzheimer knowledge 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going integration into SCF Drupal toolki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28800" y="554040"/>
            <a:ext cx="7286400" cy="5748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8:11Z</dcterms:created>
  <dc:creator>Tim Clark</dc:creator>
  <dc:description/>
  <dc:language>en-US</dc:language>
  <cp:lastModifiedBy>c082000</cp:lastModifiedBy>
  <dcterms:modified xsi:type="dcterms:W3CDTF">2009-02-24T17:15:58Z</dcterms:modified>
  <cp:revision>10</cp:revision>
  <dc:subject/>
  <dc:title>HCLS Scientific Discourse</dc:title>
</cp:coreProperties>
</file>